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B759-F58C-49B3-A924-F19D3F7A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6CAF-892F-4FCC-AEBB-2BBB94EE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5B1A-12EF-47E6-8C70-8B2D9ABB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44EB2-C3B1-4756-8E49-B82B04E3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1C63-EA42-47F2-AB42-B4F3A66D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FC70-CDFD-48C4-BE48-96414F64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6C23-9A3C-46C8-A00F-EE4887E5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53F2-8B1F-4121-AAA0-E949DF63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A954-F682-4988-A15E-917804F5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2A6B-4AB6-447F-8168-615D3EA5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73D7-EE2F-417E-8695-36EAF372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606D-9111-403B-BBCC-5796F257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2B49-4EE2-4C4D-9225-BF4BF6D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864F-A4AF-4452-9E29-14017DF9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2651-EC54-4A13-B0F1-07B44CFF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86F4-125F-4FC6-A251-87FDCEA4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9B07-B7D0-4C79-AB49-D67F6ED3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405F-B694-427C-9929-7D2E34A4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00F0-B8F5-4907-AC7B-ACA24180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FD11-C707-4E1E-96F0-E2F1C814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AFF4-103C-4B6A-A26C-162591A6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ABF2-2D37-4F87-B68F-CABEFC43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758C-D2B5-4307-8C3D-EEDD30F8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F717-4DD0-4482-AF28-96B1DB64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BFE3-78A5-478F-9CCD-BFC6938C8D0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AAC2-396E-4BE1-9363-A3F6F0EC5D3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447200"/>
            <a:ext cx="932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9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Честит тоз ден, кога добих надежда, вяра и любов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в сърцето си реших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тана ученик Христ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504440"/>
            <a:ext cx="96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н честит, ден блаж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на Христа съм посвет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то ми Той претвор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ов живот ми пода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н честит, ден блаж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на Христа съм посвет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Честит и аз, че съм прие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тана ученик Христов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безпределна благод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еизказана любов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252360" y="1504440"/>
            <a:ext cx="96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н честит, ден блаж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на Христа съм посвет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то ми Той претвор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ов живот ми пода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н честит, ден блаж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на Христа съм посвет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Сега спокойно почи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 мое, във Господ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днес през всички бъднини, пребъдвай с Него в свобод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504440"/>
            <a:ext cx="96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н честит, ден блаж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на Христа съм посвет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то ми Той претвор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ов живот ми пода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н честит, ден блаж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на Христа съм посвет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5-21T08:06:07Z</dcterms:modified>
  <cp:revision>67</cp:revision>
  <dc:subject/>
  <dc:title>Slide 1</dc:title>
</cp:coreProperties>
</file>